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4AEB-9A33-41C0-9059-CCC588B22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74AD-408F-4FEB-A96A-3239B6569F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BC95-21D1-4AD7-9DF4-3FE453410E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2B9A-A781-4DAD-96FF-100FDA645D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34C9-4DF9-47E4-A997-9971DEF0B7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9B99-C056-4339-880F-85AD442911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9037-08DB-498E-A6E1-5262E60573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AECD-5F3C-4EC7-A124-A1F0A9C2BD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CEE1-CBBD-4E63-BA25-F188219964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F5DA-870B-493F-9E96-2B5641169D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9152-F576-4E1B-B4B8-A808AF35E6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831-ADEC-4010-AEB4-C2041154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761-BAC4-4F33-9E05-6C2AC350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732-72FF-4A78-9B1D-82E6D2B3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58C-B005-465F-A3E8-26CD9CCA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EE0D-9914-4D75-B4A5-323ED937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E8E2-0A01-46D0-9D7C-11D6ABF5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0F1D-C0F9-435E-B241-667DF18C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FFFA-10D9-4824-84BC-5029E91C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6F50-3B85-4A8D-8455-FAA323F3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BABC-7FD1-4FFC-83D6-A67F28C8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6145-B41E-4A55-87A1-7EF0FBE8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1DC-28ED-4B44-A865-6F840C41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5179-A51E-4BD6-A341-020E6ABB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E567-4251-4974-9544-372874A0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6D23-41A2-4770-97E4-D0AD6653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FBBA-98DD-4A1F-B6FC-CF8A0074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48C1-AF56-4648-9B31-929E41CF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1C2F-38C7-4FE2-9427-800E8908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7F0-F78D-46BF-8589-2ABA6B53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1B7-49C9-4B32-8408-54BCFDF5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0CF-4E62-4E05-A1F7-1C99498F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D27-FF9E-4A6A-AD9C-0475F06C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CDB-5CD7-4608-B267-27DC099D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9CF-1D1F-4DC0-A826-BB8193F8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EDE5-0655-4164-9B60-ED1B8B484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C30D-04A6-4F25-A5A4-AFE49C16B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4647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85f"/>
                </a:solidFill>
                <a:latin typeface="Arial"/>
              </a:rPr>
              <a:t>John M Ackerman, Director</a:t>
            </a:r>
            <a:br>
              <a:rPr sz="1800"/>
            </a:br>
            <a:r>
              <a:rPr b="0" i="1" lang="en-US" sz="1800" spc="-1" strike="noStrike">
                <a:solidFill>
                  <a:srgbClr val="ff985f"/>
                </a:solidFill>
                <a:latin typeface="Arial"/>
              </a:rPr>
              <a:t>Assoc. Professor of Communication</a:t>
            </a:r>
            <a:br>
              <a:rPr sz="1800"/>
            </a:br>
            <a:r>
              <a:rPr b="0" i="1" lang="en-US" sz="1800" spc="-1" strike="noStrike">
                <a:solidFill>
                  <a:srgbClr val="ff985f"/>
                </a:solidFill>
                <a:latin typeface="Arial"/>
              </a:rPr>
              <a:t>Ineva Baldwin Chair of Arts and Sciences</a:t>
            </a:r>
            <a:endParaRPr b="0" i="1" lang="en-US" sz="18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76360" y="2057040"/>
            <a:ext cx="5638680" cy="1066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for Writing and Rhet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Colorado ~ Bou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57200" y="3429000"/>
            <a:ext cx="61722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5 faculty, 15 GPTIs, 10 Lectur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25 Sections @ 20 per AY ~ 8000 students &gt; 24,000 S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iversity-wide purview: 80% entering students, 80% continu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WR - 95% per course completion r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CB - 80% retention rate, 60% graduation rate (we contribu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CB - 33% in state, 67% out of state (and climb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diction - soon to be at 0% state fu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f611b"/>
                </a:solidFill>
                <a:latin typeface="Arial"/>
              </a:rPr>
              <a:t>Four corners of assessment: WPA, CCHE, NSSE, Flagship 20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257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ff15"/>
                </a:solidFill>
                <a:latin typeface="Arial"/>
              </a:rPr>
              <a:t>Writing Inquiry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Flagship 2030  </a:t>
            </a:r>
            <a:r>
              <a:rPr b="0" i="1" lang="en-US" sz="1600" spc="-1" strike="noStrike">
                <a:solidFill>
                  <a:srgbClr val="ff985f"/>
                </a:solidFill>
                <a:latin typeface="Arial"/>
              </a:rPr>
              <a:t>http://www.colorado.edu/flagship2030/</a:t>
            </a:r>
            <a:endParaRPr b="0" i="1" lang="en-US" sz="1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38080" y="1143000"/>
            <a:ext cx="76201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all of this have to do with learning to wr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% of our courses will soon be in R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instruction will soon  “internationaliz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ing is a vehicle for inclusion and d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WR is part of the Sustainability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partner with Continuing Education (year roun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are pursuing “multi-literacy” (visual, new medi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are a “model project” for servi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85f"/>
                </a:solidFill>
                <a:latin typeface="Arial"/>
              </a:rPr>
              <a:t>How might students be prepared in Colorado?</a:t>
            </a:r>
            <a:endParaRPr b="0" i="1" lang="en-US" sz="28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2120" y="2057400"/>
            <a:ext cx="8001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al writing within and across digital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tial reasoning: from diverse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 for specialized groups for actual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readings: texts, talk, graphics, we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ing with audiences, clients in the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ming dense works: books, corpuses,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, talking, reading,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WPA  </a:t>
            </a:r>
            <a:r>
              <a:rPr b="0" i="1" lang="en-US" sz="1600" spc="-1" strike="noStrike">
                <a:solidFill>
                  <a:srgbClr val="ff985f"/>
                </a:solidFill>
                <a:latin typeface="Arial"/>
              </a:rPr>
              <a:t>http://wpacouncil.org/positions/outcomes.html</a:t>
            </a:r>
            <a:endParaRPr b="0" i="1" lang="en-US" sz="16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94" name="Picture 5" descr="Screen shot 2010-08-18 at 9"/>
          <p:cNvPicPr/>
          <p:nvPr/>
        </p:nvPicPr>
        <p:blipFill>
          <a:blip r:embed="rId1"/>
          <a:stretch/>
        </p:blipFill>
        <p:spPr>
          <a:xfrm>
            <a:off x="1066680" y="838080"/>
            <a:ext cx="708660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WPA  </a:t>
            </a:r>
            <a:r>
              <a:rPr b="0" i="1" lang="en-US" sz="1600" spc="-1" strike="noStrike">
                <a:solidFill>
                  <a:srgbClr val="ff985f"/>
                </a:solidFill>
                <a:latin typeface="Arial"/>
              </a:rPr>
              <a:t>http://wpacouncil.org/positions/outcomes.html</a:t>
            </a:r>
            <a:endParaRPr b="0" i="1" lang="en-US" sz="1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33520" y="1143000"/>
            <a:ext cx="8153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etorical Knowledg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, audience, sit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tions, formality, gen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 specif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Thinking, Reading, Wr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ic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end of the first year students should know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CCHE  </a:t>
            </a:r>
            <a:r>
              <a:rPr b="0" i="1" lang="en-US" sz="1400" spc="-1" strike="noStrike">
                <a:solidFill>
                  <a:srgbClr val="ff985f"/>
                </a:solidFill>
                <a:latin typeface="Arial"/>
              </a:rPr>
              <a:t>http://highered.colorado.gov/Academics/Transfers/gtPathways/</a:t>
            </a:r>
            <a:endParaRPr b="0" i="1" lang="en-US" sz="1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99" name="Picture 4" descr="Screen shot 2010-08-18 at 9"/>
          <p:cNvPicPr/>
          <p:nvPr/>
        </p:nvPicPr>
        <p:blipFill>
          <a:blip r:embed="rId1"/>
          <a:stretch/>
        </p:blipFill>
        <p:spPr>
          <a:xfrm>
            <a:off x="1066680" y="876240"/>
            <a:ext cx="68580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CCHE  </a:t>
            </a:r>
            <a:r>
              <a:rPr b="0" i="1" lang="en-US" sz="1400" spc="-1" strike="noStrike">
                <a:solidFill>
                  <a:srgbClr val="ff985f"/>
                </a:solidFill>
                <a:latin typeface="Arial"/>
              </a:rPr>
              <a:t>http://highered.colorado.gov/Academics/Transfers/gtPathways/</a:t>
            </a:r>
            <a:endParaRPr b="0" i="1" lang="en-US" sz="1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04920" y="6019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content” of state guaranteed communication cou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80880" y="1143000"/>
            <a:ext cx="8305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etorical Knowledge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etorical sit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ce, tone, format,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gen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ing Co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 Knowledg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ence &amp; 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demic aud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ation, trans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NSSE/WPA  http://comppile.org/wpa+nsse/</a:t>
            </a:r>
            <a:endParaRPr b="0" i="1" lang="en-US" sz="20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04" name="Picture 4" descr="Screen shot 2010-08-18 at 10"/>
          <p:cNvPicPr/>
          <p:nvPr/>
        </p:nvPicPr>
        <p:blipFill>
          <a:blip r:embed="rId1"/>
          <a:stretch/>
        </p:blipFill>
        <p:spPr>
          <a:xfrm>
            <a:off x="304920" y="762120"/>
            <a:ext cx="845820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NSSE/WPA  http://comppile.org/wpa+nsse/</a:t>
            </a:r>
            <a:endParaRPr b="0" i="1" lang="en-US" sz="2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80880" y="762120"/>
            <a:ext cx="838224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uring the current school year, for how many of your writing assignments have you done each of the following: [All, Most, Some, Few, None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ainstormed to develop your ide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alk with your instructor to develop ide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alked with classm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eived feedback from your instruc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eived feedback from your classm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isited a campus writing cen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d an on-line tutoring 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ofread your dra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uring the current school year, in how many of your writing assignments did you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rrate or describe one of your experie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ummarize something you r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alyze or evaluate something your r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scribe your methods or findings related to your data you collec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gue a pos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lain numerical or statistical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in the style of a specific field (e.g., engineering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clude drawings, tables, photos, screen shots or other visual content…[25 more questions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Flagship 2030  </a:t>
            </a:r>
            <a:r>
              <a:rPr b="0" i="1" lang="en-US" sz="1600" spc="-1" strike="noStrike">
                <a:solidFill>
                  <a:srgbClr val="ff985f"/>
                </a:solidFill>
                <a:latin typeface="Arial"/>
              </a:rPr>
              <a:t>http://www.colorado.edu/flagship2030/</a:t>
            </a:r>
            <a:endParaRPr b="0" i="1" lang="en-US" sz="16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08" name="Picture 4" descr="Screen shot 2010-08-18 at 11"/>
          <p:cNvPicPr/>
          <p:nvPr/>
        </p:nvPicPr>
        <p:blipFill>
          <a:blip r:embed="rId1"/>
          <a:stretch/>
        </p:blipFill>
        <p:spPr>
          <a:xfrm>
            <a:off x="914400" y="744480"/>
            <a:ext cx="693432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85f"/>
                </a:solidFill>
                <a:latin typeface="Arial"/>
              </a:rPr>
              <a:t>Goals &amp; Assessments: Flagship 2030  </a:t>
            </a:r>
            <a:r>
              <a:rPr b="0" i="1" lang="en-US" sz="1600" spc="-1" strike="noStrike">
                <a:solidFill>
                  <a:srgbClr val="ff985f"/>
                </a:solidFill>
                <a:latin typeface="Arial"/>
              </a:rPr>
              <a:t>http://www.colorado.edu/flagship2030/</a:t>
            </a:r>
            <a:endParaRPr b="0" i="1" lang="en-US" sz="1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38080" y="1143000"/>
            <a:ext cx="731520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agship Initia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ential colle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, experiential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Diam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ing traditional bound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bal crossro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vill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tive degree tr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-round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ing enterprise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3:30:48Z</dcterms:created>
  <dc:creator>John Ackerman</dc:creator>
  <dc:description/>
  <dc:language>en-US</dc:language>
  <cp:lastModifiedBy>steviq</cp:lastModifiedBy>
  <dcterms:modified xsi:type="dcterms:W3CDTF">2010-08-20T16:17:55Z</dcterms:modified>
  <cp:revision>4</cp:revision>
  <dc:subject/>
  <dc:title>John M Ackerman Assoc. Professor of Communication Ineva Baldwin Chair of Arts and Sciences</dc:title>
</cp:coreProperties>
</file>